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193DC-1D3D-43B4-B560-6A8F8F1FCA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278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5BCF5-7FF1-4FC4-9107-82C184C3DC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278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EA55F-EBA2-4722-BDC4-714247208F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278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A5E64-2BB9-4988-947B-8F887DD0C4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919A6-CA82-4A0D-8CCF-9FA6F5A9EF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278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8EA47-8149-4444-A44D-D183D9DA43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278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FE3E4-D9F4-4336-8D2A-13AD31B06A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278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5E888-16F0-4589-A946-38E80F78D5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278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C415C-4486-424A-A48E-E8876C1702F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F70A0-E886-4871-A970-D3A8B5FD47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278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4D835-20DC-4604-986C-24CEC89A19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278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52568-6884-42CA-927D-73B89A2092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278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D4ABD-59B0-4E0A-AF75-9541E28E58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278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D3529-F069-4AE7-ABFE-DF8576D973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278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BA2E7-46CB-4931-B42B-240893D9C6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278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8CB77-8C3E-4EA8-8C6D-289FEA4E66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278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CCAAC-3BF0-4873-8998-3311C6833A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278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02AE3-1566-49F2-9978-B2CD403CAD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278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CC0FE-D9AE-4328-B04B-B2DD3C1CFF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278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FD360-17DB-4FA9-87EF-20BEB757DB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976BE-EF90-4906-8C49-83C677C561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278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1B0E3-4B96-4FC6-B43E-F5CE4F347C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278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81F1A-5A08-4A16-9C0F-D4BC992D9E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278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CBF52-AAE1-4EF7-96C9-B85B06EC28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371600"/>
            <a:ext cx="8229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5960" y="6552720"/>
            <a:ext cx="42670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333399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 2010 Pearson Education Canada / J A McLach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- </a:t>
            </a:r>
            <a:fld id="{E1563655-D8E1-47B3-938D-722A94EC34D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1100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-360" y="6552720"/>
            <a:ext cx="42670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333399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 2010 Pearson Education Canada / J A McLach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D45D5D27-578A-45D7-B6C8-FAD65903B00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371600"/>
            <a:ext cx="8229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81240" cy="482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Chapter One</a:t>
            </a:r>
            <a:endParaRPr b="0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61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endParaRPr b="0" lang="en-US" sz="58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Personal Ethics</a:t>
            </a: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CDDF1-2432-4966-9871-1B2BEBDC5C2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Locus of Control</a:t>
            </a: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What are some situations in your past that you felt were outside of your control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Why did you think they were outside of your control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What would have given you more control over the situation?</a:t>
            </a:r>
            <a:r>
              <a:rPr b="1" lang="en-US" sz="2300" spc="-1" strike="noStrike">
                <a:solidFill>
                  <a:srgbClr val="333399"/>
                </a:solidFill>
                <a:latin typeface="Times New Roman"/>
              </a:rPr>
              <a:t>                         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42840" y="6095880"/>
            <a:ext cx="1427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333399"/>
                </a:solidFill>
                <a:latin typeface="Times New Roman"/>
              </a:rPr>
              <a:t>(Continued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EE1D4-81B6-430B-B4E6-DC1179617D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Locus of Control</a:t>
            </a:r>
            <a:br>
              <a:rPr sz="5400"/>
            </a:b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What are some situations or events in your past or in the present that you felt you were able to exert some control over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Why were you able to have some control over them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How did your responses to the situations where you didn’t feel you had any control over events differ from those where you felt you had some control over the situation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BD917-C35E-496C-8969-665050B616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gnitive Moral Development</a:t>
            </a:r>
            <a:br>
              <a:rPr sz="32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awrence Kohlber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3399"/>
                </a:solidFill>
                <a:latin typeface="Times New Roman"/>
              </a:rPr>
              <a:t>Level I (Pre-conventional)</a:t>
            </a:r>
            <a:endParaRPr b="0" lang="en-US" sz="31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Times New Roman"/>
              </a:rPr>
              <a:t>Stage 1 - Obedience and Punishment</a:t>
            </a:r>
            <a:endParaRPr b="0" lang="en-US" sz="27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Times New Roman"/>
              </a:rPr>
              <a:t>Stage 2 - Individualism and Exchange</a:t>
            </a:r>
            <a:endParaRPr b="0" lang="en-US" sz="27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3399"/>
                </a:solidFill>
                <a:latin typeface="Times New Roman"/>
              </a:rPr>
              <a:t>Level II (Conventional)</a:t>
            </a:r>
            <a:endParaRPr b="0" lang="en-US" sz="31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Times New Roman"/>
              </a:rPr>
              <a:t>Stage 3 - Conformity and Social Approval</a:t>
            </a:r>
            <a:endParaRPr b="0" lang="en-US" sz="27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Times New Roman"/>
              </a:rPr>
              <a:t>Stage 4 - Upholding Duties and Laws</a:t>
            </a:r>
            <a:endParaRPr b="0" lang="en-US" sz="27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3399"/>
                </a:solidFill>
                <a:latin typeface="Times New Roman"/>
              </a:rPr>
              <a:t>Level III (Post-conventional or Principled)</a:t>
            </a:r>
            <a:endParaRPr b="0" lang="en-US" sz="31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Times New Roman"/>
              </a:rPr>
              <a:t>Stage 5 - Justice and Rights (Social Contract)</a:t>
            </a:r>
            <a:endParaRPr b="0" lang="en-US" sz="27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Times New Roman"/>
              </a:rPr>
              <a:t>Stage 6 - Principled Conscience (Theoretical only)</a:t>
            </a:r>
            <a:endParaRPr b="0" lang="en-US" sz="27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0A670-1601-429F-B7D9-4D687013CC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Feminine Moral Development</a:t>
            </a:r>
            <a:br>
              <a:rPr sz="4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arol Gilliga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99"/>
                </a:solidFill>
                <a:latin typeface="Times New Roman"/>
              </a:rPr>
              <a:t>Moral growth in women is a growth in understanding how their moral choices will affect the important relationships in their lives.</a:t>
            </a:r>
            <a:endParaRPr b="0" lang="en-US" sz="39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99"/>
                </a:solidFill>
                <a:latin typeface="Times New Roman"/>
              </a:rPr>
              <a:t>Develops into an ethic of caring.</a:t>
            </a:r>
            <a:endParaRPr b="0" lang="en-US" sz="39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002FA-93D1-40FB-A7BA-EA88C3DC4B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Male Versus Female Developmen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Cognitive Moral Developmen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Times New Roman"/>
              </a:rPr>
              <a:t>Moves toward greater autonomy—the ability to make ethical decisions independent from the influence of other people.</a:t>
            </a:r>
            <a:endParaRPr b="0" lang="en-US" sz="27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Feminine Moral Developmen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Times New Roman"/>
              </a:rPr>
              <a:t>Moves toward deeper connectedness and nurtures the relationships between people—the ability to make ethical decisions that recognize our responsibilities to one another.</a:t>
            </a:r>
            <a:endParaRPr b="0" lang="en-US" sz="27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DBB16-A3A7-473A-91D9-2A32E85216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Factors that Determine the Outcome of an Ethical Choic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Level of Moral Growth/Development</a:t>
            </a:r>
            <a:r>
              <a:rPr b="1" lang="en-US" sz="25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endParaRPr b="0" lang="en-US" sz="25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bility to make independent decision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bility to consider relationships and responsibilities to other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 . Individual Characteristic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ersonal morals, values, beliefs and assumption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ultural influenc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42840" y="6095880"/>
            <a:ext cx="1427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333399"/>
                </a:solidFill>
                <a:latin typeface="Times New Roman"/>
              </a:rPr>
              <a:t>(Continued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1072E-A06E-4DE7-A50E-4DBE4B00CE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Factors That Determine the Outcome of an Ethical Choic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3.  Locus of Contro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n-US" sz="2700" spc="-1" strike="noStrike">
                <a:solidFill>
                  <a:srgbClr val="333399"/>
                </a:solidFill>
                <a:latin typeface="Times New Roman"/>
              </a:rPr>
              <a:t>Is it Internal or External?</a:t>
            </a:r>
            <a:endParaRPr b="0" lang="en-US" sz="27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4.  Issue Intensity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2700" spc="-1" strike="noStrike">
                <a:solidFill>
                  <a:srgbClr val="333399"/>
                </a:solidFill>
                <a:latin typeface="Times New Roman"/>
              </a:rPr>
              <a:t>Is the situation critical? What is at stake?  For whom?</a:t>
            </a:r>
            <a:endParaRPr b="0" lang="en-US" sz="27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2700" spc="-1" strike="noStrike">
                <a:solidFill>
                  <a:srgbClr val="333399"/>
                </a:solidFill>
                <a:latin typeface="Times New Roman"/>
              </a:rPr>
              <a:t>How quickly must a choice be made?</a:t>
            </a:r>
            <a:endParaRPr b="0" lang="en-US" sz="27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5.  Structured Variable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2700" spc="-1" strike="noStrike">
                <a:solidFill>
                  <a:srgbClr val="333399"/>
                </a:solidFill>
                <a:latin typeface="Times New Roman"/>
              </a:rPr>
              <a:t>What are the particular details of the situation?</a:t>
            </a:r>
            <a:endParaRPr b="0" lang="en-US" sz="27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0D858-84AB-43C5-A2B2-E456DC90E9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278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n-US" sz="4600" spc="-1" strike="noStrike">
                <a:solidFill>
                  <a:srgbClr val="333399"/>
                </a:solidFill>
                <a:latin typeface="Times New Roman"/>
              </a:rPr>
              <a:t>Things that matter most should never be at the mercy of things that matter least.”</a:t>
            </a:r>
            <a:endParaRPr b="0" lang="en-US" sz="4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3399"/>
                </a:solidFill>
                <a:latin typeface="Times New Roman"/>
              </a:rPr>
              <a:t>                              </a:t>
            </a:r>
            <a:r>
              <a:rPr b="1" lang="en-US" sz="4600" spc="-1" strike="noStrike">
                <a:solidFill>
                  <a:srgbClr val="333399"/>
                </a:solidFill>
                <a:latin typeface="Times New Roman"/>
              </a:rPr>
              <a:t>- Goethe</a:t>
            </a:r>
            <a:endParaRPr b="0" lang="en-US" sz="4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E9090-AE30-4D5D-BC18-8690BB7DE0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Definitions</a:t>
            </a: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3399"/>
                </a:solidFill>
                <a:latin typeface="Times New Roman"/>
              </a:rPr>
              <a:t>Code of Ethics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            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333399"/>
                </a:solidFill>
                <a:latin typeface="Times New Roman"/>
              </a:rPr>
              <a:t>Commonly held guidelines for behaviour </a:t>
            </a:r>
            <a:endParaRPr b="0" lang="en-US" sz="27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333399"/>
                </a:solidFill>
                <a:latin typeface="Times New Roman"/>
              </a:rPr>
              <a:t>Usually formalized in written code </a:t>
            </a:r>
            <a:endParaRPr b="0" lang="en-US" sz="27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333399"/>
                </a:solidFill>
                <a:latin typeface="Times New Roman"/>
              </a:rPr>
              <a:t>Sets boundaries </a:t>
            </a:r>
            <a:endParaRPr b="0" lang="en-US" sz="27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3399"/>
                </a:solidFill>
                <a:latin typeface="Times New Roman"/>
              </a:rPr>
              <a:t>Ethics</a:t>
            </a:r>
            <a:endParaRPr b="0" lang="en-US" sz="31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333399"/>
                </a:solidFill>
                <a:latin typeface="Times New Roman"/>
              </a:rPr>
              <a:t>Process of determining moral conduct</a:t>
            </a:r>
            <a:endParaRPr b="0" lang="en-US" sz="27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333399"/>
                </a:solidFill>
                <a:latin typeface="Times New Roman"/>
              </a:rPr>
              <a:t>Converts values, morals, duty and beliefs </a:t>
            </a:r>
            <a:endParaRPr b="0" lang="en-US" sz="27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en-US" sz="2700" spc="-1" strike="noStrike">
                <a:solidFill>
                  <a:srgbClr val="333399"/>
                </a:solidFill>
                <a:latin typeface="Times New Roman"/>
              </a:rPr>
              <a:t>into actions</a:t>
            </a:r>
            <a:r>
              <a:rPr b="1" lang="en-US" sz="1700" spc="-1" strike="noStrike">
                <a:solidFill>
                  <a:srgbClr val="333399"/>
                </a:solidFill>
                <a:latin typeface="Times New Roman"/>
              </a:rPr>
              <a:t>                                                    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42840" y="6095880"/>
            <a:ext cx="1427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333399"/>
                </a:solidFill>
                <a:latin typeface="Times New Roman"/>
              </a:rPr>
              <a:t>(Continued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521C2-4DB3-4AD4-98EE-6EA9C9397A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Definitions</a:t>
            </a: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Moral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deal principles of behaviour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oncerned with what is good/bad or right/wrong</a:t>
            </a:r>
            <a:r>
              <a:rPr b="1" lang="en-US" sz="25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uty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Behaviour others have a right to expect of u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lf-imposed or imposed on us by other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Value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n uncompromising statement of what is importan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efines the person or organization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 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42840" y="6095880"/>
            <a:ext cx="1427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333399"/>
                </a:solidFill>
                <a:latin typeface="Times New Roman"/>
              </a:rPr>
              <a:t>(Continued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EEC8A-D5EE-4301-9A7A-3E3CC4A0F0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Definitions</a:t>
            </a: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Belief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Opinions or convictions about the meaning of lif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onfidence in abstract Truth or in Go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ssumption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Unconscious, self-evident truth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he underlying basis of our values, morals and dut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an be outdated or irrelevant to current situation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374FB-EC52-4C21-A6F1-3673B54FC7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External Forces Shape Our Ethic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Family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74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3399"/>
                </a:solidFill>
                <a:latin typeface="Times New Roman"/>
              </a:rPr>
              <a:t>What morals and values did you learn from your family?</a:t>
            </a:r>
            <a:endParaRPr b="0" lang="en-US" sz="3100" spc="-1" strike="noStrike">
              <a:solidFill>
                <a:srgbClr val="333399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74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3399"/>
                </a:solidFill>
                <a:latin typeface="Times New Roman"/>
              </a:rPr>
              <a:t>How were they communicated to you?</a:t>
            </a:r>
            <a:endParaRPr b="0" lang="en-US" sz="3100" spc="-1" strike="noStrike">
              <a:solidFill>
                <a:srgbClr val="333399"/>
              </a:solidFill>
              <a:latin typeface="Arial"/>
            </a:endParaRPr>
          </a:p>
          <a:p>
            <a:pPr lvl="1" marL="6908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Relig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74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3399"/>
                </a:solidFill>
                <a:latin typeface="Times New Roman"/>
              </a:rPr>
              <a:t>What religious beliefs were you taught as a child?</a:t>
            </a:r>
            <a:endParaRPr b="0" lang="en-US" sz="3100" spc="-1" strike="noStrike">
              <a:solidFill>
                <a:srgbClr val="333399"/>
              </a:solidFill>
              <a:latin typeface="Arial"/>
            </a:endParaRPr>
          </a:p>
          <a:p>
            <a:pPr marL="318960" indent="-318960" algn="r">
              <a:lnSpc>
                <a:spcPct val="100000"/>
              </a:lnSpc>
              <a:spcBef>
                <a:spcPts val="774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3399"/>
                </a:solidFill>
                <a:latin typeface="Times New Roman"/>
              </a:rPr>
              <a:t>How have your beliefs changed in adulthood?                                    </a:t>
            </a:r>
            <a:endParaRPr b="0" lang="en-US" sz="3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42840" y="6095880"/>
            <a:ext cx="1427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333399"/>
                </a:solidFill>
                <a:latin typeface="Times New Roman"/>
              </a:rPr>
              <a:t>(Continued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601E9-B537-4865-BC07-BB7E3EC8C5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External Forces Shape Our Ethic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Educa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What values and morals did you learn in school?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How have these affected you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Friends and Colleague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How have friends or work colleagues influenced you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Were (are) their influences in conflict with your  family’s values and morals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242840" y="6095880"/>
            <a:ext cx="1427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333399"/>
                </a:solidFill>
                <a:latin typeface="Times New Roman"/>
              </a:rPr>
              <a:t>(Continued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398E8-E666-400F-BE6C-E64D51D641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External Forces Shape Our Ethic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900" spc="-1" strike="noStrike">
                <a:solidFill>
                  <a:srgbClr val="333399"/>
                </a:solidFill>
                <a:latin typeface="Times New Roman"/>
              </a:rPr>
              <a:t>Social Culture</a:t>
            </a:r>
            <a:endParaRPr b="0" lang="en-US" sz="39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3399"/>
                </a:solidFill>
                <a:latin typeface="Times New Roman"/>
              </a:rPr>
              <a:t>What cultural values do you think exist in your community?  </a:t>
            </a:r>
            <a:endParaRPr b="0" lang="en-US" sz="31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Times New Roman"/>
              </a:rPr>
              <a:t>In your province?  </a:t>
            </a:r>
            <a:endParaRPr b="0" lang="en-US" sz="27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Times New Roman"/>
              </a:rPr>
              <a:t>In Canada?</a:t>
            </a:r>
            <a:endParaRPr b="0" lang="en-US" sz="27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3399"/>
                </a:solidFill>
                <a:latin typeface="Times New Roman"/>
              </a:rPr>
              <a:t>Which of these values do you agree with? </a:t>
            </a:r>
            <a:endParaRPr b="0" lang="en-US" sz="31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3399"/>
                </a:solidFill>
                <a:latin typeface="Times New Roman"/>
              </a:rPr>
              <a:t>Which do you disagree with?</a:t>
            </a:r>
            <a:endParaRPr b="0" lang="en-US" sz="31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E9D1C-DB5E-4063-9E81-E1BC699DCA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Locus of Control</a:t>
            </a: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99"/>
                </a:solidFill>
                <a:latin typeface="Times New Roman"/>
              </a:rPr>
              <a:t>Individual’s perception of how much control she/he exerts over the events of life or in a particular situation.</a:t>
            </a:r>
            <a:endParaRPr b="0" lang="en-US" sz="39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99"/>
                </a:solidFill>
                <a:latin typeface="Times New Roman"/>
              </a:rPr>
              <a:t>External  &lt;-------------------&gt;    Internal</a:t>
            </a:r>
            <a:endParaRPr b="0" lang="en-US" sz="39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42840" y="6095880"/>
            <a:ext cx="1427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333399"/>
                </a:solidFill>
                <a:latin typeface="Times New Roman"/>
              </a:rPr>
              <a:t>(Continued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6B370-02FD-498C-A769-F4FD64EA7F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14:45:27Z</dcterms:created>
  <dc:creator>Pearson Canada</dc:creator>
  <dc:description/>
  <dc:language>en-US</dc:language>
  <cp:lastModifiedBy>lindap</cp:lastModifiedBy>
  <dcterms:modified xsi:type="dcterms:W3CDTF">2009-05-04T20:50:40Z</dcterms:modified>
  <cp:revision>32</cp:revision>
  <dc:subject/>
  <dc:title>Slide 1</dc:title>
</cp:coreProperties>
</file>